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E1C-B67D-43C9-AC2E-762630D2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C13B-C7D5-4021-81E9-EFB27C65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994-CC21-4C5D-B303-51C80800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387-DFB5-4450-A7E6-05877263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306-A8A6-49B6-AD5E-36923683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E63-FEB1-4F64-B0C9-F1ECBC5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D98-2B90-4388-B2CE-8467B7C2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8E5-CF20-4530-9194-CA750299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FFD-D470-4C69-AFC2-58FF7F2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004-4E70-4FF7-AF64-EF053F74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0D4-5050-4384-9078-2F82D82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E85-F23E-46DD-8791-A4F62D24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3245-18E3-4E9F-8212-BCC8C0E03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25800"/>
            <a:ext cx="86868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cc3300"/>
                </a:solidFill>
                <a:latin typeface="Verdana"/>
              </a:rPr>
              <a:t>Архитектонски </a:t>
            </a:r>
            <a:br>
              <a:rPr sz="7200"/>
            </a:br>
            <a:r>
              <a:rPr b="1" lang="sr-CS" sz="7200" spc="-1" strike="noStrike">
                <a:solidFill>
                  <a:srgbClr val="cc3300"/>
                </a:solidFill>
                <a:latin typeface="Verdana"/>
              </a:rPr>
              <a:t>технича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80880" y="609480"/>
          <a:ext cx="3733920" cy="5257800"/>
        </p:xfrm>
        <a:graphic>
          <a:graphicData uri="http://schemas.openxmlformats.org/drawingml/2006/table">
            <a:tbl>
              <a:tblPr/>
              <a:tblGrid>
                <a:gridCol w="395280"/>
                <a:gridCol w="3338640"/>
              </a:tblGrid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ОПШТЕОБРАЗОВ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рпски језик и књиже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_______ језик и књиже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чунарство и 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трани јези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Физичко и здравствено васпи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M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стор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ОПШТЕСТРУЧНИ  И СТРУЧ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Техничко цр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Хем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Нацртна геометр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а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имена рачунара у грађевинарст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и материја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е конструк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едузетниш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лободоручно цр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татика и отпорност матер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сторија архитекту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95680" y="609480"/>
          <a:ext cx="3962520" cy="5181840"/>
        </p:xfrm>
        <a:graphic>
          <a:graphicData uri="http://schemas.openxmlformats.org/drawingml/2006/table">
            <a:tbl>
              <a:tblPr/>
              <a:tblGrid>
                <a:gridCol w="419400"/>
                <a:gridCol w="3543120"/>
              </a:tblGrid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V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СТРУЧНИ МОДУ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ојекти објеката висок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ојекти конзервације и ревитализ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АБ конструкциј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металних конструкциј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монтажних констру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дрвених констру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Документација об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вођење об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езентација про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Одрживи разво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Урбанистички планови и пројек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Кућне инста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ИЗБОР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орни предмет предвиђен Зако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ижорни предмет предвиђен Програмом огл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орни предмет предвиђен Програмом огл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274680"/>
          <a:ext cx="4343400" cy="5851440"/>
        </p:xfrm>
        <a:graphic>
          <a:graphicData uri="http://schemas.openxmlformats.org/drawingml/2006/table">
            <a:tbl>
              <a:tblPr/>
              <a:tblGrid>
                <a:gridCol w="763560"/>
                <a:gridCol w="357984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Г: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0c0c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борни предмет предвиђен Зако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нау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анско васпи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борни предмети предвиђени Програмом огл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лтимед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ограф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зичка кул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торија  ум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и комуналне хидр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и геод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е ниск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авремено градитељ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спекти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изика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изабрана поглављ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нтериј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јзажна архите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пновање обл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бинатор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матичка анали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Line 230"/>
          <p:cNvSpPr/>
          <p:nvPr/>
        </p:nvSpPr>
        <p:spPr>
          <a:xfrm>
            <a:off x="1219320" y="4648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1"/>
          <p:cNvSpPr/>
          <p:nvPr/>
        </p:nvSpPr>
        <p:spPr>
          <a:xfrm>
            <a:off x="48006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821680" y="2282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HITEKTONSKI TEHNI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3720" y="609480"/>
          <a:ext cx="8415360" cy="6127920"/>
        </p:xfrm>
        <a:graphic>
          <a:graphicData uri="http://schemas.openxmlformats.org/drawingml/2006/table">
            <a:tbl>
              <a:tblPr/>
              <a:tblGrid>
                <a:gridCol w="1576440"/>
                <a:gridCol w="463680"/>
                <a:gridCol w="6375240"/>
              </a:tblGrid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Ž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RAZRAĐUJE PROJEKTNU I TEHNIČKU DOKUMENT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/ pribavlja Akt o urbanističko tehničkim uslov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situaciju terena (situacioni plan) na osnovu geodetskog p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(osnove, karakteristične preseke, izglede, 3D prikaze)arhitektonsko-građevinske projekte (idejne, glavne, izvođačke) za objekte visokogradn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tehničkom  snimanju I iscrtavanju  projekata postojećeg / izvedenog stanja objekata visokogradnje u cilju razrade projekata I uslova I mera teh. Zaštite, elaborate I smernica za očuvanje nepokretnih kulturnih dobara I dobara koja uživaju prethodnu zaštitu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razrađivanju projekata  konzervacije I revitalizacije objekata I spomenika kul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da terenske tehničke dokumentacije na arheološkim istraživanj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da I obrada stručne tehničke dokumentacije o radovima, formiranje dosijea I drugih oblika čuvanja dokumentaci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šće u obradi za prezentaciju I objavljivanje rezultata istraživačkog I stručnog r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šeme otvora (stolarije I bravarij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predmer I predračun I analizu cena materijala I r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arhitektonske detal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plan statičkih pozici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detalje arm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arm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detalje čeličnih I drvenih konstrukci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projekte za kućni vodovod I kanaliz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materijala za vodovod I kanalizaciju  obrađujeuje tehničko – ekonomski elaborate (organizacija priprema, izvođenja I obračuna) za vodovod I kanaliz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evidentiranju I prikupljanju podataka na terenu prilikom pripreme prostornih I urbanističkih planova I rešen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razradi prostornih I urbanističkih planova I rešan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va numeričke pokazatelje za prostorne I urbanističke plano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opštu dokumentaciju projek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pira, formatizuje, pakuje celokupni projek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makete objekata I terena u određenim razmer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295280"/>
          <a:ext cx="8610480" cy="4989600"/>
        </p:xfrm>
        <a:graphic>
          <a:graphicData uri="http://schemas.openxmlformats.org/drawingml/2006/table">
            <a:tbl>
              <a:tblPr/>
              <a:tblGrid>
                <a:gridCol w="1612800"/>
                <a:gridCol w="474480"/>
                <a:gridCol w="6523200"/>
              </a:tblGrid>
              <a:tr h="24624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VODI GRADILIŠNU DOKUMENTACIJ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i građevinski dnevn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i građevinsku knjig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 knjige inspekcije)htz, građ., rada, p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privremene situ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obračunske situ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izradi okončane situacije sa zapisnikom (kao saradnik u paritetnim komisijam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računava radne nalo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kuplja ateste ugrađenih materijala I opr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materijala I kalkulacije (analize cen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še kote na osnovu nivel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UČESTVUJE U IZRADI PROJEKTA ORGANIZACIJE GRA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LANIRAN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organizacionu šemu gradiliš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 matricu za dinamički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tatički plan materij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dinamički plan materij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njava obrasce angažovanja radne snage I građevinske mehaniz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RGANIZUJE PRIPREMNE RADOVE NA GRADILIŠ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ograđivanje I obeležavanje gradilišta na osnovu protokola o obeležavanju objek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raščišćavanje ter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gradnju transportnih pute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gradnju pmoćnih objekata prema šemi gradiliš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vođenje svih potrebnih priključaka (vode, struje, 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23720" y="501480"/>
          <a:ext cx="8298000" cy="5857920"/>
        </p:xfrm>
        <a:graphic>
          <a:graphicData uri="http://schemas.openxmlformats.org/drawingml/2006/table">
            <a:tbl>
              <a:tblPr/>
              <a:tblGrid>
                <a:gridCol w="1554480"/>
                <a:gridCol w="457200"/>
                <a:gridCol w="6286320"/>
              </a:tblGrid>
              <a:tr h="2764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UČESTVUJE U ORGANIZACIJI IZGRADNJE OBJEK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ači (čita) projektnu dokumentaci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razrađuje izvođačke  detal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laže (sprovodi) izmene projektne dokument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ta geodetski plan (obeleženog objekta) Definiše kote na osnovu nivel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 izvršenje svakodnevnih radnih zadataka brigade na osnovu dinamičkog p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ira rad svih brigade na gradiliš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učuje(kontroliše) sve vrste građevinskih materija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rad građevinske mehanizacije u skladu sa dinamičkim plan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troliše primenu PP i HTZ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I evidentira realizaciju dinamičkog plana građ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realizaciju Elaborata o beto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PRIPREMA TEHNIČKU DOKUMENTACIJU I OPERATIVNO VODI UPRAVNE POSTUP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de, rešenja za lokaciju i urbanističke saglasnosti za izgradnju, dogradnju, i nadgradnju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vno vodi postupak za izdavanje saglasnosti  za izgradnju, dogradnju, nadgradnju, rekonstrukciju, adaptaciju I sanaciju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i  evidentira neregulisanu gradnju I podnosi zahteve o donošenju rešenja za stopiranje 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rešenja o rošenju bespravno izgrađenih objek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.U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VUJE U PROCENI VREDNOSTI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vrđuje vrste I količine ugrađen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erava kvalitet I stanje građevinsk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zapisnik o količini I kvalitetu građevinsk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skicu građevinskog objek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računava građevinsku vrednost objekta po pozicijama I utvrđuje stopu amort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707040" y="1596960"/>
            <a:ext cx="7823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đevinskim preduzećima - na gradilištu, tehnološkoj razradi detalja, kalkulacij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rbanističkom zav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ktnom bir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avodu za zaštitu spomenika k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avodu za izgradnju g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odetskom zav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skim komunalnim preduzeć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štinskim sekretarijatima za građevinarstvo, urbanizam,… na prijemu zaht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đevinskoj inspekci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skom (građevinskom) arhiv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govini građevinskim materijalima, nameštajem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opre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ciji za prodaju nekretnina – agent prod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mbenim  zadru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-428760" y="1523880"/>
            <a:ext cx="9375840" cy="360"/>
          </a:xfrm>
          <a:prstGeom prst="rect">
            <a:avLst/>
          </a:prstGeom>
          <a:solidFill>
            <a:srgbClr val="e6e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4"/>
          <p:cNvSpPr/>
          <p:nvPr/>
        </p:nvSpPr>
        <p:spPr>
          <a:xfrm>
            <a:off x="-428760" y="1523880"/>
            <a:ext cx="9375840" cy="360"/>
          </a:xfrm>
          <a:prstGeom prst="rect">
            <a:avLst/>
          </a:prstGeom>
          <a:solidFill>
            <a:srgbClr val="e6e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62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1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163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3300"/>
                </a:solidFill>
                <a:latin typeface="Arial"/>
              </a:rPr>
              <a:t>Архитектонски технич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3300"/>
                </a:solidFill>
                <a:latin typeface="Arial"/>
              </a:rPr>
              <a:t>Радне компет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5228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разради и презентује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ојект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високоградње</a:t>
            </a:r>
            <a:r>
              <a:rPr b="1" lang="sr-Latn-CS" sz="1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урбанистич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конзервације и ревитализ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312408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уради анализу цен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едмер и предрачу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радова за обј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617220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организује изградњу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води документациј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и извођењу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10800000">
            <a:off x="1295280" y="114264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10800000">
            <a:off x="4267080" y="114264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10800000">
            <a:off x="7391160" y="114264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3300"/>
                </a:solidFill>
                <a:latin typeface="Arial"/>
              </a:rPr>
              <a:t>проверавају се стручном мату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0"/>
          <p:cNvGrpSpPr/>
          <p:nvPr/>
        </p:nvGrpSpPr>
        <p:grpSpPr>
          <a:xfrm>
            <a:off x="1523880" y="4800600"/>
            <a:ext cx="6096240" cy="380880"/>
            <a:chOff x="1523880" y="4800600"/>
            <a:chExt cx="6096240" cy="380880"/>
          </a:xfrm>
        </p:grpSpPr>
        <p:sp>
          <p:nvSpPr>
            <p:cNvPr id="56" name="Line 19"/>
            <p:cNvSpPr/>
            <p:nvPr/>
          </p:nvSpPr>
          <p:spPr>
            <a:xfrm>
              <a:off x="1523880" y="5181480"/>
              <a:ext cx="609624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3"/>
            <p:cNvSpPr/>
            <p:nvPr/>
          </p:nvSpPr>
          <p:spPr>
            <a:xfrm flipV="1">
              <a:off x="152388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4"/>
            <p:cNvSpPr/>
            <p:nvPr/>
          </p:nvSpPr>
          <p:spPr>
            <a:xfrm flipV="1">
              <a:off x="457200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5"/>
            <p:cNvSpPr/>
            <p:nvPr/>
          </p:nvSpPr>
          <p:spPr>
            <a:xfrm flipV="1">
              <a:off x="762012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29"/>
          <p:cNvSpPr/>
          <p:nvPr/>
        </p:nvSpPr>
        <p:spPr>
          <a:xfrm rot="10800000">
            <a:off x="4267080" y="533376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 rot="10800000">
            <a:off x="4343400" y="76176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1523880" y="1523520"/>
            <a:ext cx="6096240" cy="381600"/>
            <a:chOff x="1523880" y="1523520"/>
            <a:chExt cx="6096240" cy="381600"/>
          </a:xfrm>
        </p:grpSpPr>
        <p:sp>
          <p:nvSpPr>
            <p:cNvPr id="63" name="Line 10"/>
            <p:cNvSpPr/>
            <p:nvPr/>
          </p:nvSpPr>
          <p:spPr>
            <a:xfrm>
              <a:off x="1523880" y="1523880"/>
              <a:ext cx="609624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1523880" y="152388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4572000" y="152352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620120" y="152388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6"/>
          <p:cNvSpPr/>
          <p:nvPr/>
        </p:nvSpPr>
        <p:spPr>
          <a:xfrm>
            <a:off x="45720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ЗН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35268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ВЕШ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647712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СТАВ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4" descr="mpindex"/>
          <p:cNvPicPr/>
          <p:nvPr/>
        </p:nvPicPr>
        <p:blipFill>
          <a:blip r:embed="rId2"/>
          <a:stretch/>
        </p:blipFill>
        <p:spPr>
          <a:xfrm>
            <a:off x="7716960" y="838080"/>
            <a:ext cx="142704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2120" y="6324480"/>
            <a:ext cx="782352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ЂЕВИНСКИ МАТЕРИЈАЛИ, ТЕХНИЧКО ЦРТАЊЕ, ГРАЂЕВИНСКЕ КОНСТРУКЦИЈ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ЛОБОДОРУЧНО ЦРТАЊЕ, МАТЕМАТИКА, СРПСКИ ЈЕЗИК, СТРАНИ ЈЕЗИК, ФИЗИЧ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 rot="16200000">
            <a:off x="2907720" y="3493440"/>
            <a:ext cx="3787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ЈЕКТИ ОБЈЕКАТА ВИСОКОГРАД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174720" y="5486400"/>
            <a:ext cx="2360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ЂЕВИНСКА 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4952880" y="914040"/>
            <a:ext cx="0" cy="4799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 rot="16200000">
            <a:off x="1840320" y="3133800"/>
            <a:ext cx="65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знаке цртежа, конструктивни склоп, пројектна документација, функција и ест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5562720" y="915480"/>
            <a:ext cx="0" cy="4341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 rot="16200000">
            <a:off x="4455360" y="4004640"/>
            <a:ext cx="1911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Б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5943600" y="914400"/>
            <a:ext cx="0" cy="4114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 rot="16200000">
            <a:off x="3857760" y="3024360"/>
            <a:ext cx="3868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ТАЛНЕ И МОНТАЖНЕ 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6324480" y="914040"/>
            <a:ext cx="0" cy="3809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 rot="16200000">
            <a:off x="4950720" y="2290680"/>
            <a:ext cx="24454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РВЕНЕ 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6705720" y="914400"/>
            <a:ext cx="0" cy="3581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 rot="16200000">
            <a:off x="5414760" y="2206440"/>
            <a:ext cx="2279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ВОЂЕЊЕ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7086600" y="914040"/>
            <a:ext cx="0" cy="3505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 rot="16200000">
            <a:off x="5541120" y="2489040"/>
            <a:ext cx="2788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ОКУМЕНТАЦИЈА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 flipV="1">
            <a:off x="373392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 rot="16200000">
            <a:off x="2764440" y="2073960"/>
            <a:ext cx="1636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НЗЕРВ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V="1">
            <a:off x="335268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 rot="16200000">
            <a:off x="2546640" y="1876320"/>
            <a:ext cx="13100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РБАНИЗ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4572000" y="914040"/>
            <a:ext cx="0" cy="2590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 rot="16200000">
            <a:off x="3319920" y="2247840"/>
            <a:ext cx="22014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УЋНЕ ИНСТАЛ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16200000">
            <a:off x="2583000" y="2678040"/>
            <a:ext cx="27608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ЕЗАНТАЦИЈА ПРО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5"/>
          <p:cNvSpPr/>
          <p:nvPr/>
        </p:nvSpPr>
        <p:spPr>
          <a:xfrm>
            <a:off x="0" y="0"/>
            <a:ext cx="1828800" cy="762120"/>
          </a:xfrm>
          <a:prstGeom prst="cloudCallout">
            <a:avLst>
              <a:gd name="adj1" fmla="val 10592"/>
              <a:gd name="adj2" fmla="val 46875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ЗАШТИТА СПОМ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6"/>
          <p:cNvSpPr/>
          <p:nvPr/>
        </p:nvSpPr>
        <p:spPr>
          <a:xfrm>
            <a:off x="990720" y="533520"/>
            <a:ext cx="1752480" cy="609480"/>
          </a:xfrm>
          <a:prstGeom prst="cloudCallout">
            <a:avLst>
              <a:gd name="adj1" fmla="val 31069"/>
              <a:gd name="adj2" fmla="val 59898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РБАНИ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7"/>
          <p:cNvSpPr/>
          <p:nvPr/>
        </p:nvSpPr>
        <p:spPr>
          <a:xfrm>
            <a:off x="1447920" y="0"/>
            <a:ext cx="1904760" cy="609480"/>
          </a:xfrm>
          <a:prstGeom prst="cloudCallout">
            <a:avLst>
              <a:gd name="adj1" fmla="val 27333"/>
              <a:gd name="adj2" fmla="val 122916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НСПЕК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8"/>
          <p:cNvSpPr/>
          <p:nvPr/>
        </p:nvSpPr>
        <p:spPr>
          <a:xfrm>
            <a:off x="4952880" y="533520"/>
            <a:ext cx="2210040" cy="457200"/>
          </a:xfrm>
          <a:prstGeom prst="cloudCallout">
            <a:avLst>
              <a:gd name="adj1" fmla="val -430"/>
              <a:gd name="adj2" fmla="val 2986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ГРАДИЛИШ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9"/>
          <p:cNvSpPr/>
          <p:nvPr/>
        </p:nvSpPr>
        <p:spPr>
          <a:xfrm>
            <a:off x="5791320" y="0"/>
            <a:ext cx="2133360" cy="762120"/>
          </a:xfrm>
          <a:prstGeom prst="cloudCallout">
            <a:avLst>
              <a:gd name="adj1" fmla="val -51337"/>
              <a:gd name="adj2" fmla="val 5416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РХИТЕКТОНСКИ ФАКУЛ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0"/>
          <p:cNvSpPr/>
          <p:nvPr/>
        </p:nvSpPr>
        <p:spPr>
          <a:xfrm>
            <a:off x="7086600" y="228600"/>
            <a:ext cx="2057400" cy="762120"/>
          </a:xfrm>
          <a:prstGeom prst="cloudCallout">
            <a:avLst>
              <a:gd name="adj1" fmla="val -41050"/>
              <a:gd name="adj2" fmla="val 7854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ГРАЂЕВИНСКИ ФАКУЛ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1"/>
          <p:cNvSpPr/>
          <p:nvPr/>
        </p:nvSpPr>
        <p:spPr>
          <a:xfrm>
            <a:off x="3886200" y="0"/>
            <a:ext cx="2209680" cy="457200"/>
          </a:xfrm>
          <a:prstGeom prst="cloudCallout">
            <a:avLst>
              <a:gd name="adj1" fmla="val 54740"/>
              <a:gd name="adj2" fmla="val 17986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ОЈЕКТНИ БИ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2"/>
          <p:cNvSpPr/>
          <p:nvPr/>
        </p:nvSpPr>
        <p:spPr>
          <a:xfrm>
            <a:off x="2895480" y="457200"/>
            <a:ext cx="2210040" cy="457200"/>
          </a:xfrm>
          <a:prstGeom prst="cloudCallout">
            <a:avLst>
              <a:gd name="adj1" fmla="val 106467"/>
              <a:gd name="adj2" fmla="val 113194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КОМУНАЛНЕ СЛУЖ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411480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6"/>
          <p:cNvSpPr/>
          <p:nvPr/>
        </p:nvSpPr>
        <p:spPr>
          <a:xfrm rot="10800000">
            <a:off x="4648320" y="4572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9"/>
          <p:cNvSpPr/>
          <p:nvPr/>
        </p:nvSpPr>
        <p:spPr>
          <a:xfrm>
            <a:off x="1526040" y="2209680"/>
            <a:ext cx="11577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2211840" y="5715000"/>
            <a:ext cx="9212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ХЕМ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1"/>
          <p:cNvSpPr/>
          <p:nvPr/>
        </p:nvSpPr>
        <p:spPr>
          <a:xfrm>
            <a:off x="7144200" y="2895480"/>
            <a:ext cx="19972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ЕХНИЧКО ЦРТ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2"/>
          <p:cNvSpPr/>
          <p:nvPr/>
        </p:nvSpPr>
        <p:spPr>
          <a:xfrm>
            <a:off x="1069920" y="5105520"/>
            <a:ext cx="31845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РАЧУНАРСТВО И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4"/>
          <p:cNvSpPr/>
          <p:nvPr/>
        </p:nvSpPr>
        <p:spPr>
          <a:xfrm>
            <a:off x="1373760" y="4114800"/>
            <a:ext cx="23068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ЦРТНА ГЕОМЕТ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5"/>
          <p:cNvSpPr/>
          <p:nvPr/>
        </p:nvSpPr>
        <p:spPr>
          <a:xfrm>
            <a:off x="611640" y="3276720"/>
            <a:ext cx="2568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ЛОБОДОРУЧНО ЦРТ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7"/>
          <p:cNvSpPr/>
          <p:nvPr/>
        </p:nvSpPr>
        <p:spPr>
          <a:xfrm>
            <a:off x="613440" y="5105520"/>
            <a:ext cx="4057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МЕНА РАЧУНАРА У ГРАЂЕВИНАР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8"/>
          <p:cNvSpPr/>
          <p:nvPr/>
        </p:nvSpPr>
        <p:spPr>
          <a:xfrm>
            <a:off x="7165440" y="4572000"/>
            <a:ext cx="1017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9"/>
          <p:cNvSpPr/>
          <p:nvPr/>
        </p:nvSpPr>
        <p:spPr>
          <a:xfrm>
            <a:off x="687960" y="2209680"/>
            <a:ext cx="24940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 АРХИТЕК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7164360" y="2133720"/>
            <a:ext cx="116064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ЖИ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РАЗВО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383040" y="1447920"/>
            <a:ext cx="15400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УЛТИМЕ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763560" y="2666880"/>
            <a:ext cx="1393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ЕОГРАФ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839880" y="3657600"/>
            <a:ext cx="1901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УЗИЧКА КУЛ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687600" y="4495680"/>
            <a:ext cx="23248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 УМЕ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9"/>
          <p:cNvSpPr/>
          <p:nvPr/>
        </p:nvSpPr>
        <p:spPr>
          <a:xfrm>
            <a:off x="231480" y="1828800"/>
            <a:ext cx="29131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ВРЕМЕНО ГРАДИТЕЉ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0"/>
          <p:cNvSpPr/>
          <p:nvPr/>
        </p:nvSpPr>
        <p:spPr>
          <a:xfrm>
            <a:off x="383760" y="5105520"/>
            <a:ext cx="36644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СНОВИ КОМУНАЛНЕ ХИДРОТЕХ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1"/>
          <p:cNvSpPr/>
          <p:nvPr/>
        </p:nvSpPr>
        <p:spPr>
          <a:xfrm>
            <a:off x="7545600" y="4191120"/>
            <a:ext cx="1250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ЕОД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3"/>
          <p:cNvSpPr/>
          <p:nvPr/>
        </p:nvSpPr>
        <p:spPr>
          <a:xfrm>
            <a:off x="6327000" y="5029200"/>
            <a:ext cx="24332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СНОВИ НИСКОГРАД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4"/>
          <p:cNvSpPr/>
          <p:nvPr/>
        </p:nvSpPr>
        <p:spPr>
          <a:xfrm>
            <a:off x="7165080" y="3352680"/>
            <a:ext cx="1817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МБИНАТО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5"/>
          <p:cNvSpPr/>
          <p:nvPr/>
        </p:nvSpPr>
        <p:spPr>
          <a:xfrm>
            <a:off x="155880" y="2971800"/>
            <a:ext cx="1521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6"/>
          <p:cNvSpPr/>
          <p:nvPr/>
        </p:nvSpPr>
        <p:spPr>
          <a:xfrm>
            <a:off x="689760" y="4800600"/>
            <a:ext cx="31068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ФИЗИКА ИЗАБРАНА ПОГЛАВЉ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7"/>
          <p:cNvSpPr/>
          <p:nvPr/>
        </p:nvSpPr>
        <p:spPr>
          <a:xfrm>
            <a:off x="6480720" y="5181480"/>
            <a:ext cx="2483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ТЕМАТИЧКА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8"/>
          <p:cNvSpPr/>
          <p:nvPr/>
        </p:nvSpPr>
        <p:spPr>
          <a:xfrm>
            <a:off x="230400" y="3886200"/>
            <a:ext cx="2478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МПОНОВАЊЕ ОБЛ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9"/>
          <p:cNvSpPr/>
          <p:nvPr/>
        </p:nvSpPr>
        <p:spPr>
          <a:xfrm>
            <a:off x="230760" y="5638680"/>
            <a:ext cx="2529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ЕЈЗАЖНА АРХИТЕ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0"/>
          <p:cNvSpPr/>
          <p:nvPr/>
        </p:nvSpPr>
        <p:spPr>
          <a:xfrm>
            <a:off x="383400" y="2438280"/>
            <a:ext cx="13665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ЕНТЕРИЈ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1"/>
          <p:cNvSpPr/>
          <p:nvPr/>
        </p:nvSpPr>
        <p:spPr>
          <a:xfrm>
            <a:off x="7012800" y="3809880"/>
            <a:ext cx="1933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ЕДУЗЕТНИШ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А: </a:t>
            </a:r>
            <a:r>
              <a:rPr b="1" i="1" lang="en-US" sz="2800" spc="-1" strike="noStrike">
                <a:solidFill>
                  <a:srgbClr val="cc3300"/>
                </a:solidFill>
                <a:latin typeface="Verdana"/>
              </a:rPr>
              <a:t>ОПШТЕОБРАЗОВ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2201760"/>
          <a:ext cx="8077320" cy="3200400"/>
        </p:xfrm>
        <a:graphic>
          <a:graphicData uri="http://schemas.openxmlformats.org/drawingml/2006/table">
            <a:tbl>
              <a:tblPr/>
              <a:tblGrid>
                <a:gridCol w="973080"/>
                <a:gridCol w="710424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ПСКИ ЈЕЗИК И КЊИЖЕ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______ ЈЕЗИК И КЊИЖЕ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НИ ЈЕ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КО И ЗДРАВСТВЕНО ВАСПИ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ЧУНАРСТВО И 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YU C Swiss"/>
              </a:rPr>
              <a:t>Б: </a:t>
            </a:r>
            <a:r>
              <a:rPr b="1" i="1" lang="en-US" sz="2800" spc="-1" strike="noStrike">
                <a:solidFill>
                  <a:srgbClr val="cc3300"/>
                </a:solidFill>
                <a:latin typeface="YU C Swiss"/>
              </a:rPr>
              <a:t>ОПШТЕСТРУЧНИ  И СТРУЧ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077320" cy="4937040"/>
        </p:xfrm>
        <a:graphic>
          <a:graphicData uri="http://schemas.openxmlformats.org/drawingml/2006/table">
            <a:tbl>
              <a:tblPr/>
              <a:tblGrid>
                <a:gridCol w="685800"/>
                <a:gridCol w="7391520"/>
              </a:tblGrid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КО ЦР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РТНА ГЕОМЕТ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А 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НА РАЧУНАРА У ГРАЂЕВИНАРСТ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И МАТЕРИЈ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Е КОНСТРУК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КА И ОТПОРНОСТ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РЖИВИ РАЗВ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ЗЕТНИШ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ОБОДОРУЧНО ЦР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 АРХИТЕК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В: </a:t>
            </a:r>
            <a:r>
              <a:rPr b="1" i="1" lang="en-US" sz="2800" spc="-1" strike="noStrike">
                <a:solidFill>
                  <a:srgbClr val="cc3300"/>
                </a:solidFill>
                <a:latin typeface="Verdana"/>
              </a:rPr>
              <a:t>СТРУЧНИ МОД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534520" cy="4359240"/>
        </p:xfrm>
        <a:graphic>
          <a:graphicData uri="http://schemas.openxmlformats.org/drawingml/2006/table">
            <a:tbl>
              <a:tblPr/>
              <a:tblGrid>
                <a:gridCol w="870120"/>
                <a:gridCol w="766440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ЈЕКТИ ОБЈЕКАТА ВИСОКОГРАД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ЕЂЕЊЕ НАСЕЉ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ЈЕКТИ КОНЗЕРВАЦИЈЕ И РЕВИТАЛИЗ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АРМИРАНО БЕТОНСК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МЕТАЛ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ДРВЕ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МОНТАЖ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УМЕНТАЦИЈА ОБЈЕК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ВОЂЕЊЕ ОБЈЕК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ЗЕНТАЦИЈА ПРОЈ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ЋНЕ ИНСТАЛ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В: ИЗБОР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882720"/>
          <a:ext cx="8534520" cy="5811840"/>
        </p:xfrm>
        <a:graphic>
          <a:graphicData uri="http://schemas.openxmlformats.org/drawingml/2006/table">
            <a:tbl>
              <a:tblPr/>
              <a:tblGrid>
                <a:gridCol w="870120"/>
                <a:gridCol w="766440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 ПРЕДВИЂЕН 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НА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АНСКО ВАСПИТ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 ПРЕДВИЂЕН ПРОГРАМОМ ОГЛ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ЛТИМЕД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ИЧКА КУЛ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 УМ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Е КОМУНАЛНЕ ХИДРОТЕХ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И ГЕОДЕ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И НИСКОГРАД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ВРЕМЕНО ГРАДИТЕЉ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БИНАТОР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 ИЗАБРАНА ПОГЛАВ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НТЕРИЈ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ЈЗАЖНА АРХИТЕ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МАТИЧКА АНАЛ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ОНОВАЊЕ О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15:43Z</dcterms:created>
  <dc:creator/>
  <dc:description/>
  <dc:language>en-US</dc:language>
  <cp:lastModifiedBy>Ivan B.</cp:lastModifiedBy>
  <dcterms:modified xsi:type="dcterms:W3CDTF">2007-12-25T04:51:46Z</dcterms:modified>
  <cp:revision>33</cp:revision>
  <dc:subject/>
  <dc:title>Архитектонски техничар</dc:title>
</cp:coreProperties>
</file>